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B6B-A3FE-4EF7-9B13-3D4CD8E1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C1E-D1EC-4593-96EE-7062567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241-AA47-4411-807B-B14B03EA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967-9032-4109-9048-C91E89A9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48E6-0227-4E82-A342-9F76BB0D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D75B-6A96-4026-B29C-C81845E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C275C-E485-46CD-9C1B-E85F6D77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68FF0-995A-4229-92D3-0AD116C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E99C9-8D82-42F5-800F-06468948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C8D41-3410-4575-96DA-789B906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0F003-D0B6-4C2D-8F05-5D4EBC7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0E9-8F52-4ADC-A40F-AB5D3D44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6777-1172-4344-942D-D9CF337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5A298-0873-4CDB-8BAA-272474A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81F35-B261-4775-97F4-8BF72B0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F966D-64BD-42D8-AE71-BA03D5F8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19B3-D69D-4797-92B0-62001060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D0F-6D11-4B63-B767-D584C72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749-3632-457A-8E26-D3827BD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6A9-D17A-4D84-A98D-7F44F911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767-615D-47FE-83E0-7DE9B9B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87F-BA91-4A94-A0BC-8D94562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68B-8140-47F5-9046-3D57922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4D6-C6F3-46BD-9B86-717F8648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318-E3DD-452B-999A-B1446D434E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9D31-83F7-4CE7-91DE-BA1B65AF9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c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3040" y="3984120"/>
            <a:ext cx="63979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Teena serra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mosphere is the gas that surrounds a pl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26600"/>
            <a:ext cx="71038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ximum amount that can be held or tak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b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r more substanes put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ce that ruens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 Elementary School</cp:lastModifiedBy>
  <dcterms:modified xsi:type="dcterms:W3CDTF">2009-04-16T17:24:10Z</dcterms:modified>
  <cp:revision>14</cp:revision>
  <dc:subject/>
  <dc:title>Science Terms</dc:title>
</cp:coreProperties>
</file>